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7241-3339-4D63-AA59-3A2D7D8E8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ECA8-9DC1-46BE-888E-9163AA817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FB8B-7C9A-4656-BAD4-22F50649C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AD32-B8C7-46B4-8D7F-0E720446E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6927-FC12-4D47-B16C-2E0495424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5088-1118-4BE7-BAD2-C95334E59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3849-95A7-499B-8C74-7BF7CF600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C062-B29B-41C5-84E6-4B182D2FF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7ABA-6DA9-43BD-AF78-8B6CC27ED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26DF-8867-4B02-887A-1929EEAB7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1752-B69E-4824-8773-0E35FC444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3D22-30D0-43AC-BC18-C0DAA0EB6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392-7A0B-4BF4-B293-DB15D909FD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A47-F385-4EF9-B624-688BC4609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additive, multiplicative and generalization concepts in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D3E-553F-4A54-9B56-ADEC5FCA6F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ABF3-720D-431F-A02B-C1CDFABCB4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erimet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 x 3 grid of squares with only 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5 x 5 grid of squares where only the outside edge of squares i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17 x 17 grid of squares with only the outside edge of squares shaded, how many squares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4832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236232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236232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981080"/>
            <a:ext cx="380880" cy="381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600200"/>
            <a:ext cx="38124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600200"/>
            <a:ext cx="38088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using the mathematical processes as your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ther tables to examine the type of feedback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athematical process was the l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similarities to the feedback you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CDSB</cp:lastModifiedBy>
  <dcterms:modified xsi:type="dcterms:W3CDTF">2011-08-05T00:42:57Z</dcterms:modified>
  <cp:revision>5</cp:revision>
  <dc:subject/>
  <dc:title>&lt;Title&gt;</dc:title>
</cp:coreProperties>
</file>